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47EE-E342-428A-B77A-9D903BEB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A19A-55E1-4626-A892-57DB412F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47E-7118-4DEF-8037-2527D905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A9E-9725-4F35-B42A-E7ED7478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2A97-7741-4D66-A73C-02B9D4D1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F72-1DB3-454A-A05D-E2A8D6F3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A08-D6AA-4CA2-B72D-024C41A8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EA82-0065-45D6-91A6-38788E96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A45F-FADD-4833-9189-223D3F45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7F3-A55B-43CD-97FA-7D6B16A8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C289-C8EA-4A38-A522-4187E520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2F6-BB79-41A5-A92E-16AA94AC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A4D66-5510-46B1-8A3B-5313381C53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hm.ac.uk/science/projects/worldmap/diversity/index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8" descr="forest"/>
          <p:cNvPicPr/>
          <p:nvPr/>
        </p:nvPicPr>
        <p:blipFill>
          <a:blip r:embed="rId1"/>
          <a:stretch/>
        </p:blipFill>
        <p:spPr>
          <a:xfrm>
            <a:off x="5651640" y="3500280"/>
            <a:ext cx="2712960" cy="3048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900000" y="189000"/>
            <a:ext cx="741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at is Biodivers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468360" y="981000"/>
            <a:ext cx="83516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Biodiversity refers to the number of different species that live in an eco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39640" y="1989000"/>
            <a:ext cx="835200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A high biodiversity means that there are many organisms and generally indicates a healthy eco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Wheat%20Crop"/>
          <p:cNvPicPr/>
          <p:nvPr/>
        </p:nvPicPr>
        <p:blipFill>
          <a:blip r:embed="rId2"/>
          <a:stretch/>
        </p:blipFill>
        <p:spPr>
          <a:xfrm>
            <a:off x="539640" y="3789360"/>
            <a:ext cx="3372120" cy="22399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6"/>
          <p:cNvSpPr/>
          <p:nvPr/>
        </p:nvSpPr>
        <p:spPr>
          <a:xfrm>
            <a:off x="2916360" y="3860640"/>
            <a:ext cx="1800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ow bio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4788000" y="6165720"/>
            <a:ext cx="2376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bio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World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836640"/>
            <a:ext cx="7345440" cy="426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Text Box 8"/>
          <p:cNvSpPr/>
          <p:nvPr/>
        </p:nvSpPr>
        <p:spPr>
          <a:xfrm>
            <a:off x="900000" y="189000"/>
            <a:ext cx="741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Global Bio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7740720" y="1341360"/>
            <a:ext cx="142920" cy="432000"/>
          </a:xfrm>
          <a:prstGeom prst="rect">
            <a:avLst/>
          </a:prstGeom>
          <a:solidFill>
            <a:srgbClr val="fe35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740720" y="1773360"/>
            <a:ext cx="142920" cy="43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7740720" y="2205000"/>
            <a:ext cx="1429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7740720" y="2637000"/>
            <a:ext cx="142920" cy="431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7740720" y="3068640"/>
            <a:ext cx="142920" cy="43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7740720" y="3500280"/>
            <a:ext cx="142920" cy="432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7885080" y="3429000"/>
            <a:ext cx="15112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ow bio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7775640" y="1268280"/>
            <a:ext cx="13683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biod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24000" y="5270400"/>
            <a:ext cx="8351640" cy="159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ere is the greatest biodiversity f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at happens to biodiversity as you move from the equator towards the po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042920" y="0"/>
            <a:ext cx="7416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y is biodiversity so high in the TR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95640" y="4581360"/>
            <a:ext cx="338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arm temper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global_earth"/>
          <p:cNvPicPr/>
          <p:nvPr/>
        </p:nvPicPr>
        <p:blipFill>
          <a:blip r:embed="rId1"/>
          <a:stretch/>
        </p:blipFill>
        <p:spPr>
          <a:xfrm>
            <a:off x="2556000" y="5084640"/>
            <a:ext cx="2808000" cy="15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250920" y="3141720"/>
            <a:ext cx="219708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Text Box 10"/>
          <p:cNvSpPr/>
          <p:nvPr/>
        </p:nvSpPr>
        <p:spPr>
          <a:xfrm>
            <a:off x="2627280" y="2997360"/>
            <a:ext cx="367344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GOOD GROWING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winter-wood-4553"/>
          <p:cNvPicPr/>
          <p:nvPr/>
        </p:nvPicPr>
        <p:blipFill>
          <a:blip r:embed="rId3"/>
          <a:stretch/>
        </p:blipFill>
        <p:spPr>
          <a:xfrm>
            <a:off x="6227640" y="1197000"/>
            <a:ext cx="2336760" cy="16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Line 12"/>
          <p:cNvSpPr/>
          <p:nvPr/>
        </p:nvSpPr>
        <p:spPr>
          <a:xfrm>
            <a:off x="6084720" y="1052640"/>
            <a:ext cx="2590920" cy="1800000"/>
          </a:xfrm>
          <a:prstGeom prst="line">
            <a:avLst/>
          </a:prstGeom>
          <a:ln w="57240">
            <a:solidFill>
              <a:srgbClr val="fe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V="1">
            <a:off x="6156360" y="1125360"/>
            <a:ext cx="2519280" cy="1727280"/>
          </a:xfrm>
          <a:prstGeom prst="line">
            <a:avLst/>
          </a:prstGeom>
          <a:ln w="57240">
            <a:solidFill>
              <a:srgbClr val="fe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6048360" y="2852640"/>
            <a:ext cx="3095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ttle seasonal var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5580000" y="5877000"/>
            <a:ext cx="3311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rainf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4"/>
          <a:stretch/>
        </p:blipFill>
        <p:spPr>
          <a:xfrm>
            <a:off x="5651640" y="4149720"/>
            <a:ext cx="3240000" cy="16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18" descr="383-mexico-chiapas-rainforest"/>
          <p:cNvPicPr/>
          <p:nvPr/>
        </p:nvPicPr>
        <p:blipFill>
          <a:blip r:embed="rId5"/>
          <a:stretch/>
        </p:blipFill>
        <p:spPr>
          <a:xfrm>
            <a:off x="1116000" y="981000"/>
            <a:ext cx="239400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Text Box 19"/>
          <p:cNvSpPr/>
          <p:nvPr/>
        </p:nvSpPr>
        <p:spPr>
          <a:xfrm>
            <a:off x="-396720" y="2349360"/>
            <a:ext cx="338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relative hum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50920" y="5661000"/>
            <a:ext cx="187308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light inten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755640" y="260280"/>
            <a:ext cx="7416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y is biodiversity so high in the TR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843280" y="2997360"/>
            <a:ext cx="3744720" cy="947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MANY DIFFERENT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moth_bark_close"/>
          <p:cNvPicPr/>
          <p:nvPr/>
        </p:nvPicPr>
        <p:blipFill>
          <a:blip r:embed="rId1"/>
          <a:stretch/>
        </p:blipFill>
        <p:spPr>
          <a:xfrm>
            <a:off x="611280" y="3860640"/>
            <a:ext cx="1866960" cy="27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Text Box 10"/>
          <p:cNvSpPr/>
          <p:nvPr/>
        </p:nvSpPr>
        <p:spPr>
          <a:xfrm>
            <a:off x="0" y="4005360"/>
            <a:ext cx="122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Ba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OlympicRainforest_07"/>
          <p:cNvPicPr/>
          <p:nvPr/>
        </p:nvPicPr>
        <p:blipFill>
          <a:blip r:embed="rId2"/>
          <a:stretch/>
        </p:blipFill>
        <p:spPr>
          <a:xfrm>
            <a:off x="6732720" y="1413000"/>
            <a:ext cx="2195280" cy="16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 Box 13"/>
          <p:cNvSpPr/>
          <p:nvPr/>
        </p:nvSpPr>
        <p:spPr>
          <a:xfrm>
            <a:off x="7451640" y="981000"/>
            <a:ext cx="122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Fallen 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f_9"/>
          <p:cNvPicPr/>
          <p:nvPr/>
        </p:nvPicPr>
        <p:blipFill>
          <a:blip r:embed="rId3"/>
          <a:stretch/>
        </p:blipFill>
        <p:spPr>
          <a:xfrm>
            <a:off x="324000" y="1125360"/>
            <a:ext cx="2447640" cy="189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Text Box 16"/>
          <p:cNvSpPr/>
          <p:nvPr/>
        </p:nvSpPr>
        <p:spPr>
          <a:xfrm>
            <a:off x="2195640" y="1341360"/>
            <a:ext cx="1512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On or under r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hoodedorchid"/>
          <p:cNvPicPr/>
          <p:nvPr/>
        </p:nvPicPr>
        <p:blipFill>
          <a:blip r:embed="rId4"/>
          <a:stretch/>
        </p:blipFill>
        <p:spPr>
          <a:xfrm>
            <a:off x="6732720" y="4076640"/>
            <a:ext cx="194292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2" name="Text Box 19"/>
          <p:cNvSpPr/>
          <p:nvPr/>
        </p:nvSpPr>
        <p:spPr>
          <a:xfrm>
            <a:off x="5940360" y="6237360"/>
            <a:ext cx="1944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Between pl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daintree%20rainforest%20canopy"/>
          <p:cNvPicPr/>
          <p:nvPr/>
        </p:nvPicPr>
        <p:blipFill>
          <a:blip r:embed="rId5"/>
          <a:stretch/>
        </p:blipFill>
        <p:spPr>
          <a:xfrm>
            <a:off x="3348000" y="4508640"/>
            <a:ext cx="2490840" cy="187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 Box 24"/>
          <p:cNvSpPr/>
          <p:nvPr/>
        </p:nvSpPr>
        <p:spPr>
          <a:xfrm>
            <a:off x="3851280" y="6165720"/>
            <a:ext cx="158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In the can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6" descr="planting"/>
          <p:cNvPicPr/>
          <p:nvPr/>
        </p:nvPicPr>
        <p:blipFill>
          <a:blip r:embed="rId6"/>
          <a:stretch/>
        </p:blipFill>
        <p:spPr>
          <a:xfrm>
            <a:off x="4067280" y="1484280"/>
            <a:ext cx="2017440" cy="142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Text Box 27"/>
          <p:cNvSpPr/>
          <p:nvPr/>
        </p:nvSpPr>
        <p:spPr>
          <a:xfrm>
            <a:off x="5148360" y="2492280"/>
            <a:ext cx="122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So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755640" y="0"/>
            <a:ext cx="7416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Why is biodiversity so high in the TR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908000" y="3716280"/>
            <a:ext cx="482472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UNDISTUR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0220cloud-forest-interior"/>
          <p:cNvPicPr/>
          <p:nvPr/>
        </p:nvPicPr>
        <p:blipFill>
          <a:blip r:embed="rId1"/>
          <a:stretch/>
        </p:blipFill>
        <p:spPr>
          <a:xfrm>
            <a:off x="5867280" y="692280"/>
            <a:ext cx="2143080" cy="28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" name="Picture 12" descr="prales2"/>
          <p:cNvPicPr/>
          <p:nvPr/>
        </p:nvPicPr>
        <p:blipFill>
          <a:blip r:embed="rId2"/>
          <a:stretch/>
        </p:blipFill>
        <p:spPr>
          <a:xfrm>
            <a:off x="1619280" y="4581360"/>
            <a:ext cx="5832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1" name="Picture 14" descr="seasons"/>
          <p:cNvPicPr/>
          <p:nvPr/>
        </p:nvPicPr>
        <p:blipFill>
          <a:blip r:embed="rId3"/>
          <a:stretch/>
        </p:blipFill>
        <p:spPr>
          <a:xfrm>
            <a:off x="250920" y="1197000"/>
            <a:ext cx="3367080" cy="2222640"/>
          </a:xfrm>
          <a:prstGeom prst="rect">
            <a:avLst/>
          </a:prstGeom>
          <a:ln w="0">
            <a:noFill/>
          </a:ln>
        </p:spPr>
      </p:pic>
      <p:sp>
        <p:nvSpPr>
          <p:cNvPr id="92" name="Line 15"/>
          <p:cNvSpPr/>
          <p:nvPr/>
        </p:nvSpPr>
        <p:spPr>
          <a:xfrm>
            <a:off x="0" y="1052640"/>
            <a:ext cx="3708360" cy="2376360"/>
          </a:xfrm>
          <a:prstGeom prst="line">
            <a:avLst/>
          </a:prstGeom>
          <a:ln w="57240">
            <a:solidFill>
              <a:srgbClr val="fe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0" y="1125000"/>
            <a:ext cx="3780000" cy="2374920"/>
          </a:xfrm>
          <a:prstGeom prst="line">
            <a:avLst/>
          </a:prstGeom>
          <a:ln w="57240">
            <a:solidFill>
              <a:srgbClr val="fe14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1979640" y="6521400"/>
            <a:ext cx="5040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ttle human interference (until recent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2987640" y="1773360"/>
            <a:ext cx="1873440" cy="106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ttle variation in conditions throughout th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6804000" y="2637000"/>
            <a:ext cx="234000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  <a:ea typeface="Angsana New"/>
              </a:rPr>
              <a:t>Undisturbed by climatic events e.g. ice 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826920" y="260280"/>
            <a:ext cx="7417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Bio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68360" y="2781360"/>
            <a:ext cx="482472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BIO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2050920" y="1916280"/>
            <a:ext cx="5473800" cy="3168360"/>
          </a:xfrm>
          <a:prstGeom prst="irregularSeal1">
            <a:avLst/>
          </a:prstGeom>
          <a:noFill/>
          <a:ln w="38160">
            <a:solidFill>
              <a:srgbClr val="ffff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700280"/>
            <a:ext cx="16923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relative humi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4932360" y="5670720"/>
            <a:ext cx="223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Undisturbed by climatic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1187280" y="5670720"/>
            <a:ext cx="20178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mited huma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2050920" y="907920"/>
            <a:ext cx="2340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Many ni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5867280" y="836640"/>
            <a:ext cx="2376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Warm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0" y="3860640"/>
            <a:ext cx="14400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7236000" y="1916280"/>
            <a:ext cx="2232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Little seasonal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7667640" y="4365720"/>
            <a:ext cx="147636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Angsana New"/>
              </a:rPr>
              <a:t>High light int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2"/>
          <p:cNvSpPr/>
          <p:nvPr/>
        </p:nvSpPr>
        <p:spPr>
          <a:xfrm rot="8119800">
            <a:off x="6156360" y="1773000"/>
            <a:ext cx="936720" cy="287280"/>
          </a:xfrm>
          <a:custGeom>
            <a:avLst/>
            <a:gdLst>
              <a:gd name="textAreaLeft" fmla="*/ 11700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 rot="18383400">
            <a:off x="2878920" y="5265000"/>
            <a:ext cx="936720" cy="287280"/>
          </a:xfrm>
          <a:custGeom>
            <a:avLst/>
            <a:gdLst>
              <a:gd name="textAreaLeft" fmla="*/ 11700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4"/>
          <p:cNvSpPr/>
          <p:nvPr/>
        </p:nvSpPr>
        <p:spPr>
          <a:xfrm rot="15036000">
            <a:off x="5471280" y="5122080"/>
            <a:ext cx="936720" cy="287280"/>
          </a:xfrm>
          <a:custGeom>
            <a:avLst/>
            <a:gdLst>
              <a:gd name="textAreaLeft" fmla="*/ 11700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5"/>
          <p:cNvSpPr/>
          <p:nvPr/>
        </p:nvSpPr>
        <p:spPr>
          <a:xfrm rot="12678600">
            <a:off x="7019640" y="4508640"/>
            <a:ext cx="936720" cy="287280"/>
          </a:xfrm>
          <a:custGeom>
            <a:avLst/>
            <a:gdLst>
              <a:gd name="textAreaLeft" fmla="*/ 117000 w 936720"/>
              <a:gd name="textAreaRight" fmla="*/ 819720 w 936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6"/>
          <p:cNvSpPr/>
          <p:nvPr/>
        </p:nvSpPr>
        <p:spPr>
          <a:xfrm rot="9601800">
            <a:off x="7508160" y="3176280"/>
            <a:ext cx="717480" cy="228600"/>
          </a:xfrm>
          <a:custGeom>
            <a:avLst/>
            <a:gdLst>
              <a:gd name="textAreaLeft" fmla="*/ 89640 w 717480"/>
              <a:gd name="textAreaRight" fmla="*/ 627840 w 717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7"/>
          <p:cNvSpPr/>
          <p:nvPr/>
        </p:nvSpPr>
        <p:spPr>
          <a:xfrm rot="3291600">
            <a:off x="2806920" y="1592640"/>
            <a:ext cx="936720" cy="287640"/>
          </a:xfrm>
          <a:custGeom>
            <a:avLst/>
            <a:gdLst>
              <a:gd name="textAreaLeft" fmla="*/ 117000 w 936720"/>
              <a:gd name="textAreaRight" fmla="*/ 819720 w 93672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8"/>
          <p:cNvSpPr/>
          <p:nvPr/>
        </p:nvSpPr>
        <p:spPr>
          <a:xfrm flipV="1" rot="21057000">
            <a:off x="1118880" y="4015800"/>
            <a:ext cx="787320" cy="282600"/>
          </a:xfrm>
          <a:custGeom>
            <a:avLst/>
            <a:gdLst>
              <a:gd name="textAreaLeft" fmla="*/ 98280 w 787320"/>
              <a:gd name="textAreaRight" fmla="*/ 689040 w 787320"/>
              <a:gd name="textAreaTop" fmla="*/ 70560 h 282600"/>
              <a:gd name="textAreaBottom" fmla="*/ 212040 h 282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9"/>
          <p:cNvSpPr/>
          <p:nvPr/>
        </p:nvSpPr>
        <p:spPr>
          <a:xfrm rot="1427400">
            <a:off x="1403280" y="2420640"/>
            <a:ext cx="719280" cy="288720"/>
          </a:xfrm>
          <a:custGeom>
            <a:avLst/>
            <a:gdLst>
              <a:gd name="textAreaLeft" fmla="*/ 89640 w 719280"/>
              <a:gd name="textAreaRight" fmla="*/ 629640 w 71928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755640" y="26028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  <a:ea typeface="Angsana New"/>
              </a:rPr>
              <a:t>Biodiversity in the T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611280" y="3500280"/>
            <a:ext cx="446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50% of all known species are found in the TR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435640" y="5300640"/>
            <a:ext cx="3384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100-300 species per hec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500720" y="1557360"/>
            <a:ext cx="34574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ngsana New"/>
              </a:rPr>
              <a:t>TRFs are the most diverse ecosystems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forest"/>
          <p:cNvPicPr/>
          <p:nvPr/>
        </p:nvPicPr>
        <p:blipFill>
          <a:blip r:embed="rId1"/>
          <a:stretch/>
        </p:blipFill>
        <p:spPr>
          <a:xfrm>
            <a:off x="1547640" y="981000"/>
            <a:ext cx="2200320" cy="24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1" name="Picture 10" descr="p_ulysses-butterfly"/>
          <p:cNvPicPr/>
          <p:nvPr/>
        </p:nvPicPr>
        <p:blipFill>
          <a:blip r:embed="rId2"/>
          <a:stretch/>
        </p:blipFill>
        <p:spPr>
          <a:xfrm>
            <a:off x="6219720" y="2565360"/>
            <a:ext cx="1814760" cy="25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2" name="Picture 14" descr="peruamazon"/>
          <p:cNvPicPr/>
          <p:nvPr/>
        </p:nvPicPr>
        <p:blipFill>
          <a:blip r:embed="rId3"/>
          <a:stretch/>
        </p:blipFill>
        <p:spPr>
          <a:xfrm>
            <a:off x="1403280" y="4581360"/>
            <a:ext cx="3097440" cy="204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09:33:38Z</dcterms:created>
  <dc:creator>ACER</dc:creator>
  <dc:description/>
  <dc:language>en-US</dc:language>
  <cp:lastModifiedBy>Sarah Preston</cp:lastModifiedBy>
  <dcterms:modified xsi:type="dcterms:W3CDTF">2015-01-06T09:31:32Z</dcterms:modified>
  <cp:revision>30</cp:revision>
  <dc:subject/>
  <dc:title>Slide 1</dc:title>
</cp:coreProperties>
</file>